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9F42-CB6B-4F03-AA82-73D0682D1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AB24-9608-4A82-83A5-5560CD1C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F9BF-1A98-412E-B5D6-E8E1B80A8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4BE8-3171-4FB8-ABBC-84CBF417F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6624-C17F-4E80-8AF1-CF4E1560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4BD5-739C-4026-8EE3-79D0F938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BE66-4F34-4EA1-80EC-D405901D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0314-F786-442C-B182-86C15518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246A-C37A-4D77-9452-A34E5060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3D57-F29E-4254-AB92-DAE9AB2C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AC71-7A44-4A71-9214-BD7046C9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A8B7-BED2-462E-BD47-3BCC49EC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CE4A-2BDA-4E42-B2A1-CEEA49770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uperclubsplus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New eLearning Resources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Etherpad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ve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rcRect l="0" t="22916" r="0" b="3741"/>
          <a:stretch/>
        </p:blipFill>
        <p:spPr>
          <a:xfrm>
            <a:off x="0" y="1781280"/>
            <a:ext cx="914400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Possible tools for </a:t>
            </a:r>
            <a:br>
              <a:rPr sz="4000"/>
            </a:b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personalising learning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39640" y="1773360"/>
            <a:ext cx="8064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mphasis on personalising learning, sharing &amp; collaborating and organising information efficiently for quick delivery or retrieval highlights the value of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ise web-based star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: Blogs and wik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end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favourites – bookma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 – social learning 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Personalise a sample start page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new page on iGoogle or the Level 4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ssage to your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favourite activity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lendar with  2 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RSS feed to something of interest to your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ink to a blog or wi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>
            <a:hlinkClick r:id="rId1"/>
          </p:cNvPr>
          <p:cNvPicPr/>
          <p:nvPr/>
        </p:nvPicPr>
        <p:blipFill>
          <a:blip r:embed="rId2"/>
          <a:srcRect l="0" t="24361" r="0" b="3760"/>
          <a:stretch/>
        </p:blipFill>
        <p:spPr>
          <a:xfrm>
            <a:off x="468360" y="1197000"/>
            <a:ext cx="867564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rcRect l="0" t="24271" r="0" b="4124"/>
          <a:stretch/>
        </p:blipFill>
        <p:spPr>
          <a:xfrm>
            <a:off x="179280" y="1341360"/>
            <a:ext cx="896472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rcRect l="0" t="23945" r="0" b="8002"/>
          <a:stretch/>
        </p:blipFill>
        <p:spPr>
          <a:xfrm>
            <a:off x="179280" y="1557360"/>
            <a:ext cx="896472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rcRect l="0" t="24309" r="0" b="4313"/>
          <a:stretch/>
        </p:blipFill>
        <p:spPr>
          <a:xfrm>
            <a:off x="250920" y="1413000"/>
            <a:ext cx="87138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rcRect l="0" t="24545" r="0" b="4762"/>
          <a:stretch/>
        </p:blipFill>
        <p:spPr>
          <a:xfrm>
            <a:off x="324000" y="1916280"/>
            <a:ext cx="864072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rcRect l="0" t="23100" r="0" b="4540"/>
          <a:stretch/>
        </p:blipFill>
        <p:spPr>
          <a:xfrm>
            <a:off x="395280" y="1989000"/>
            <a:ext cx="82803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01:10:37Z</dcterms:created>
  <dc:creator>02167970</dc:creator>
  <dc:description/>
  <dc:language>en-US</dc:language>
  <cp:lastModifiedBy>02167970</cp:lastModifiedBy>
  <dcterms:modified xsi:type="dcterms:W3CDTF">2009-10-20T03:16:07Z</dcterms:modified>
  <cp:revision>8</cp:revision>
  <dc:subject/>
  <dc:title>New eLearning Resources</dc:title>
</cp:coreProperties>
</file>